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756400"/>
            <a:ext cx="9144000" cy="11048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797520" y="4110120"/>
            <a:ext cx="2346480" cy="1719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5195880"/>
            <a:ext cx="6824520" cy="633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45160" y="5557680"/>
            <a:ext cx="2306520" cy="995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12760" y="5557680"/>
            <a:ext cx="2306880" cy="995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749600" y="5829480"/>
            <a:ext cx="1033200" cy="180720"/>
          </a:xfrm>
          <a:custGeom>
            <a:avLst/>
            <a:gdLst/>
            <a:ahLst/>
            <a:rect l="l" t="t" r="r" b="b"/>
            <a:pathLst>
              <a:path w="624" h="96">
                <a:moveTo>
                  <a:pt x="0" y="0"/>
                </a:moveTo>
                <a:lnTo>
                  <a:pt x="624" y="0"/>
                </a:lnTo>
                <a:lnTo>
                  <a:pt x="624" y="96"/>
                </a:lnTo>
                <a:lnTo>
                  <a:pt x="0" y="96"/>
                </a:lnTo>
                <a:lnTo>
                  <a:pt x="0" y="0"/>
                </a:lnTo>
                <a:close/>
              </a:path>
            </a:pathLst>
          </a:custGeom>
          <a:solidFill>
            <a:srgbClr val="663300"/>
          </a:solidFill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81640" y="5829480"/>
            <a:ext cx="1033560" cy="180720"/>
          </a:xfrm>
          <a:custGeom>
            <a:avLst/>
            <a:gdLst/>
            <a:ahLst/>
            <a:rect l="l" t="t" r="r" b="b"/>
            <a:pathLst>
              <a:path w="624" h="96">
                <a:moveTo>
                  <a:pt x="0" y="0"/>
                </a:moveTo>
                <a:lnTo>
                  <a:pt x="624" y="0"/>
                </a:lnTo>
                <a:lnTo>
                  <a:pt x="624" y="96"/>
                </a:lnTo>
                <a:lnTo>
                  <a:pt x="0" y="96"/>
                </a:lnTo>
                <a:lnTo>
                  <a:pt x="0" y="0"/>
                </a:lnTo>
                <a:close/>
              </a:path>
            </a:pathLst>
          </a:custGeom>
          <a:solidFill>
            <a:srgbClr val="663300"/>
          </a:solidFill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5829480"/>
            <a:ext cx="9144000" cy="723600"/>
          </a:xfrm>
          <a:custGeom>
            <a:avLst/>
            <a:gdLst/>
            <a:ahLst/>
            <a:rect l="l" t="t" r="r" b="b"/>
            <a:pathLst>
              <a:path w="5520" h="384">
                <a:moveTo>
                  <a:pt x="0" y="0"/>
                </a:moveTo>
                <a:lnTo>
                  <a:pt x="672" y="0"/>
                </a:lnTo>
                <a:lnTo>
                  <a:pt x="672" y="384"/>
                </a:lnTo>
                <a:lnTo>
                  <a:pt x="2064" y="384"/>
                </a:lnTo>
                <a:lnTo>
                  <a:pt x="2064" y="0"/>
                </a:lnTo>
                <a:lnTo>
                  <a:pt x="3408" y="0"/>
                </a:lnTo>
                <a:lnTo>
                  <a:pt x="3408" y="384"/>
                </a:lnTo>
                <a:lnTo>
                  <a:pt x="4800" y="384"/>
                </a:lnTo>
                <a:lnTo>
                  <a:pt x="4800" y="0"/>
                </a:lnTo>
                <a:lnTo>
                  <a:pt x="5520" y="0"/>
                </a:lnTo>
              </a:path>
            </a:pathLst>
          </a:cu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1452600" y="353880"/>
            <a:ext cx="614988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755e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Princip říčního zdymadla</a:t>
            </a:r>
            <a:endParaRPr b="0" lang="en-US" sz="24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755e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4080" y="6280200"/>
            <a:ext cx="1050840" cy="3063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940040" y="5951520"/>
            <a:ext cx="677880" cy="677880"/>
            <a:chOff x="1940040" y="5951520"/>
            <a:chExt cx="677880" cy="677880"/>
          </a:xfrm>
        </p:grpSpPr>
        <p:sp>
          <p:nvSpPr>
            <p:cNvPr id="49" name=""/>
            <p:cNvSpPr/>
            <p:nvPr/>
          </p:nvSpPr>
          <p:spPr>
            <a:xfrm>
              <a:off x="1940040" y="5951520"/>
              <a:ext cx="677880" cy="677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333333"/>
                </a:gs>
                <a:gs pos="100000">
                  <a:srgbClr val="b2b2b2"/>
                </a:gs>
              </a:gsLst>
              <a:lin ang="5400000"/>
            </a:gra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74960" y="6140520"/>
              <a:ext cx="601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82880" y="6446880"/>
              <a:ext cx="601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874880" y="6176880"/>
            <a:ext cx="817560" cy="239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473520" y="5952960"/>
            <a:ext cx="677880" cy="677880"/>
            <a:chOff x="6473520" y="5952960"/>
            <a:chExt cx="677880" cy="677880"/>
          </a:xfrm>
        </p:grpSpPr>
        <p:sp>
          <p:nvSpPr>
            <p:cNvPr id="54" name=""/>
            <p:cNvSpPr/>
            <p:nvPr/>
          </p:nvSpPr>
          <p:spPr>
            <a:xfrm rot="5400000">
              <a:off x="6473520" y="5952960"/>
              <a:ext cx="677880" cy="677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333333"/>
                </a:gs>
                <a:gs pos="100000">
                  <a:srgbClr val="b2b2b2"/>
                </a:gs>
              </a:gsLst>
              <a:lin ang="10800000"/>
            </a:gra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62400" y="5987880"/>
              <a:ext cx="0" cy="601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56040" y="5995800"/>
              <a:ext cx="0" cy="601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340000" y="4121280"/>
            <a:ext cx="4433760" cy="108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152960" y="4854600"/>
            <a:ext cx="1295280" cy="469800"/>
            <a:chOff x="4152960" y="4854600"/>
            <a:chExt cx="1295280" cy="469800"/>
          </a:xfrm>
        </p:grpSpPr>
        <p:sp>
          <p:nvSpPr>
            <p:cNvPr id="59" name=""/>
            <p:cNvSpPr/>
            <p:nvPr/>
          </p:nvSpPr>
          <p:spPr>
            <a:xfrm>
              <a:off x="4152960" y="5095800"/>
              <a:ext cx="1295280" cy="228600"/>
            </a:xfrm>
            <a:prstGeom prst="flowChartManualOperation">
              <a:avLst/>
            </a:prstGeom>
            <a:gradFill rotWithShape="0">
              <a:gsLst>
                <a:gs pos="0">
                  <a:srgbClr val="3b0000"/>
                </a:gs>
                <a:gs pos="50000">
                  <a:srgbClr val="800000"/>
                </a:gs>
                <a:gs pos="100000">
                  <a:srgbClr val="3b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84520" y="4943520"/>
              <a:ext cx="609120" cy="15228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32040" y="4997520"/>
              <a:ext cx="36360" cy="36360"/>
            </a:xfrm>
            <a:prstGeom prst="ellipse">
              <a:avLst/>
            </a:prstGeom>
            <a:solidFill>
              <a:srgbClr val="99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997520"/>
              <a:ext cx="36360" cy="36360"/>
            </a:xfrm>
            <a:prstGeom prst="ellipse">
              <a:avLst/>
            </a:prstGeom>
            <a:solidFill>
              <a:srgbClr val="99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63880" y="4997520"/>
              <a:ext cx="36360" cy="36360"/>
            </a:xfrm>
            <a:prstGeom prst="ellipse">
              <a:avLst/>
            </a:prstGeom>
            <a:solidFill>
              <a:srgbClr val="99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9800" y="4997520"/>
              <a:ext cx="36000" cy="36360"/>
            </a:xfrm>
            <a:prstGeom prst="ellipse">
              <a:avLst/>
            </a:prstGeom>
            <a:solidFill>
              <a:srgbClr val="99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95720" y="4997520"/>
              <a:ext cx="36000" cy="36360"/>
            </a:xfrm>
            <a:prstGeom prst="ellipse">
              <a:avLst/>
            </a:prstGeom>
            <a:solidFill>
              <a:srgbClr val="99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4595760" y="4854600"/>
              <a:ext cx="88560" cy="88920"/>
            </a:xfrm>
            <a:prstGeom prst="parallelogram">
              <a:avLst>
                <a:gd name="adj" fmla="val 25000"/>
              </a:avLst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4755960" y="4854600"/>
              <a:ext cx="88560" cy="88920"/>
            </a:xfrm>
            <a:prstGeom prst="parallelogram">
              <a:avLst>
                <a:gd name="adj" fmla="val 25000"/>
              </a:avLst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916160" y="4854600"/>
              <a:ext cx="88560" cy="88920"/>
            </a:xfrm>
            <a:prstGeom prst="parallelogram">
              <a:avLst>
                <a:gd name="adj" fmla="val 25000"/>
              </a:avLst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184480" y="3657600"/>
            <a:ext cx="1733400" cy="2133720"/>
          </a:xfrm>
          <a:prstGeom prst="rect">
            <a:avLst/>
          </a:prstGeom>
          <a:solidFill>
            <a:srgbClr val="3333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78000" y="3657600"/>
            <a:ext cx="228600" cy="2133720"/>
          </a:xfrm>
          <a:prstGeom prst="rect">
            <a:avLst/>
          </a:prstGeom>
          <a:solidFill>
            <a:srgbClr val="3333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27680" y="3652920"/>
            <a:ext cx="1733760" cy="2133360"/>
          </a:xfrm>
          <a:prstGeom prst="rect">
            <a:avLst/>
          </a:prstGeom>
          <a:solidFill>
            <a:srgbClr val="3333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05720" y="3657600"/>
            <a:ext cx="228600" cy="2133720"/>
          </a:xfrm>
          <a:prstGeom prst="rect">
            <a:avLst/>
          </a:prstGeom>
          <a:solidFill>
            <a:srgbClr val="3333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31040" y="6172200"/>
            <a:ext cx="817560" cy="239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-3.33333E-006 -0.15972 E">
                                      <p:cBhvr>
                                        <p:cTn id="51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5961 L 0.55 -0.15961 E">
                                      <p:cBhvr>
                                        <p:cTn id="62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5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6470640" y="5948280"/>
            <a:ext cx="677880" cy="677880"/>
            <a:chOff x="6470640" y="5948280"/>
            <a:chExt cx="677880" cy="677880"/>
          </a:xfrm>
        </p:grpSpPr>
        <p:sp>
          <p:nvSpPr>
            <p:cNvPr id="75" name=""/>
            <p:cNvSpPr/>
            <p:nvPr/>
          </p:nvSpPr>
          <p:spPr>
            <a:xfrm>
              <a:off x="6470640" y="5948280"/>
              <a:ext cx="677880" cy="677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333333"/>
                </a:gs>
                <a:gs pos="100000">
                  <a:srgbClr val="b2b2b2"/>
                </a:gs>
              </a:gsLst>
              <a:lin ang="5400000"/>
            </a:gra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05560" y="6137280"/>
              <a:ext cx="601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13480" y="6443640"/>
              <a:ext cx="601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937880" y="5951520"/>
            <a:ext cx="677880" cy="677880"/>
            <a:chOff x="1937880" y="5951520"/>
            <a:chExt cx="677880" cy="677880"/>
          </a:xfrm>
        </p:grpSpPr>
        <p:sp>
          <p:nvSpPr>
            <p:cNvPr id="79" name=""/>
            <p:cNvSpPr/>
            <p:nvPr/>
          </p:nvSpPr>
          <p:spPr>
            <a:xfrm rot="5400000">
              <a:off x="1937880" y="5951520"/>
              <a:ext cx="677880" cy="677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333333"/>
                </a:gs>
                <a:gs pos="100000">
                  <a:srgbClr val="b2b2b2"/>
                </a:gs>
              </a:gsLst>
              <a:lin ang="10800000"/>
            </a:gra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26760" y="5986440"/>
              <a:ext cx="0" cy="601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20400" y="5994360"/>
              <a:ext cx="0" cy="601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874880" y="6176880"/>
            <a:ext cx="817560" cy="239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4121280"/>
            <a:ext cx="4433760" cy="108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31040" y="6172200"/>
            <a:ext cx="817560" cy="239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008600" y="3848040"/>
            <a:ext cx="1996560" cy="366840"/>
            <a:chOff x="4008600" y="3848040"/>
            <a:chExt cx="1996560" cy="366840"/>
          </a:xfrm>
        </p:grpSpPr>
        <p:grpSp>
          <p:nvGrpSpPr>
            <p:cNvPr id="86" name=""/>
            <p:cNvGrpSpPr/>
            <p:nvPr/>
          </p:nvGrpSpPr>
          <p:grpSpPr>
            <a:xfrm>
              <a:off x="4008600" y="3894120"/>
              <a:ext cx="1244520" cy="312840"/>
              <a:chOff x="4008600" y="3894120"/>
              <a:chExt cx="1244520" cy="312840"/>
            </a:xfrm>
          </p:grpSpPr>
          <p:sp>
            <p:nvSpPr>
              <p:cNvPr id="87" name=""/>
              <p:cNvSpPr/>
              <p:nvPr/>
            </p:nvSpPr>
            <p:spPr>
              <a:xfrm>
                <a:off x="4024440" y="3894120"/>
                <a:ext cx="1228680" cy="220680"/>
              </a:xfrm>
              <a:custGeom>
                <a:avLst/>
                <a:gdLst/>
                <a:ahLst/>
                <a:rect l="l" t="t" r="r" b="b"/>
                <a:pathLst>
                  <a:path w="774" h="139">
                    <a:moveTo>
                      <a:pt x="0" y="62"/>
                    </a:moveTo>
                    <a:cubicBezTo>
                      <a:pt x="23" y="48"/>
                      <a:pt x="47" y="47"/>
                      <a:pt x="72" y="38"/>
                    </a:cubicBezTo>
                    <a:cubicBezTo>
                      <a:pt x="88" y="26"/>
                      <a:pt x="97" y="12"/>
                      <a:pt x="115" y="5"/>
                    </a:cubicBezTo>
                    <a:cubicBezTo>
                      <a:pt x="142" y="8"/>
                      <a:pt x="170" y="10"/>
                      <a:pt x="197" y="14"/>
                    </a:cubicBezTo>
                    <a:cubicBezTo>
                      <a:pt x="216" y="17"/>
                      <a:pt x="255" y="24"/>
                      <a:pt x="255" y="24"/>
                    </a:cubicBezTo>
                    <a:cubicBezTo>
                      <a:pt x="275" y="55"/>
                      <a:pt x="294" y="61"/>
                      <a:pt x="327" y="72"/>
                    </a:cubicBezTo>
                    <a:cubicBezTo>
                      <a:pt x="362" y="65"/>
                      <a:pt x="368" y="51"/>
                      <a:pt x="399" y="43"/>
                    </a:cubicBezTo>
                    <a:cubicBezTo>
                      <a:pt x="419" y="30"/>
                      <a:pt x="429" y="8"/>
                      <a:pt x="451" y="0"/>
                    </a:cubicBezTo>
                    <a:cubicBezTo>
                      <a:pt x="522" y="6"/>
                      <a:pt x="545" y="14"/>
                      <a:pt x="600" y="53"/>
                    </a:cubicBezTo>
                    <a:cubicBezTo>
                      <a:pt x="628" y="48"/>
                      <a:pt x="653" y="44"/>
                      <a:pt x="677" y="29"/>
                    </a:cubicBezTo>
                    <a:cubicBezTo>
                      <a:pt x="694" y="3"/>
                      <a:pt x="699" y="15"/>
                      <a:pt x="725" y="24"/>
                    </a:cubicBezTo>
                    <a:cubicBezTo>
                      <a:pt x="737" y="41"/>
                      <a:pt x="749" y="43"/>
                      <a:pt x="763" y="58"/>
                    </a:cubicBezTo>
                    <a:cubicBezTo>
                      <a:pt x="774" y="88"/>
                      <a:pt x="773" y="76"/>
                      <a:pt x="773" y="91"/>
                    </a:cubicBezTo>
                    <a:lnTo>
                      <a:pt x="763" y="139"/>
                    </a:lnTo>
                    <a:lnTo>
                      <a:pt x="135" y="139"/>
                    </a:lnTo>
                    <a:lnTo>
                      <a:pt x="0" y="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3300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08600" y="4008600"/>
                <a:ext cx="1243080" cy="198360"/>
              </a:xfrm>
              <a:custGeom>
                <a:avLst/>
                <a:gdLst/>
                <a:ahLst/>
                <a:rect l="l" t="t" r="r" b="b"/>
                <a:pathLst>
                  <a:path w="442" h="120">
                    <a:moveTo>
                      <a:pt x="0" y="0"/>
                    </a:moveTo>
                    <a:lnTo>
                      <a:pt x="442" y="0"/>
                    </a:lnTo>
                    <a:lnTo>
                      <a:pt x="442" y="120"/>
                    </a:lnTo>
                    <a:lnTo>
                      <a:pt x="72" y="12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b0000"/>
                  </a:gs>
                  <a:gs pos="50000">
                    <a:srgbClr val="800000"/>
                  </a:gs>
                  <a:gs pos="100000">
                    <a:srgbClr val="3b0000"/>
                  </a:gs>
                </a:gsLst>
                <a:lin ang="10800000"/>
              </a:gra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5279760" y="3848040"/>
              <a:ext cx="725400" cy="366840"/>
              <a:chOff x="5279760" y="3848040"/>
              <a:chExt cx="725400" cy="366840"/>
            </a:xfrm>
          </p:grpSpPr>
          <p:sp>
            <p:nvSpPr>
              <p:cNvPr id="90" name=""/>
              <p:cNvSpPr/>
              <p:nvPr/>
            </p:nvSpPr>
            <p:spPr>
              <a:xfrm flipH="1">
                <a:off x="5631120" y="3848040"/>
                <a:ext cx="280800" cy="16020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5827320" y="3902040"/>
                <a:ext cx="36360" cy="36360"/>
              </a:xfrm>
              <a:prstGeom prst="ellipse">
                <a:avLst/>
              </a:prstGeom>
              <a:solidFill>
                <a:srgbClr val="99cc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5711400" y="3902040"/>
                <a:ext cx="36360" cy="36360"/>
              </a:xfrm>
              <a:prstGeom prst="ellipse">
                <a:avLst/>
              </a:prstGeom>
              <a:solidFill>
                <a:srgbClr val="99cc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5279400" y="4008240"/>
                <a:ext cx="725400" cy="206640"/>
              </a:xfrm>
              <a:prstGeom prst="rect">
                <a:avLst/>
              </a:prstGeom>
              <a:gradFill rotWithShape="0">
                <a:gsLst>
                  <a:gs pos="0">
                    <a:srgbClr val="00172f"/>
                  </a:gs>
                  <a:gs pos="50000">
                    <a:srgbClr val="003366"/>
                  </a:gs>
                  <a:gs pos="100000">
                    <a:srgbClr val="00172f"/>
                  </a:gs>
                </a:gsLst>
                <a:lin ang="108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54800" y="385776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2190600" y="3659040"/>
            <a:ext cx="1733760" cy="2133720"/>
          </a:xfrm>
          <a:prstGeom prst="rect">
            <a:avLst/>
          </a:prstGeom>
          <a:solidFill>
            <a:srgbClr val="3333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78000" y="3657600"/>
            <a:ext cx="228600" cy="2133720"/>
          </a:xfrm>
          <a:prstGeom prst="rect">
            <a:avLst/>
          </a:prstGeom>
          <a:solidFill>
            <a:srgbClr val="3333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27680" y="3652920"/>
            <a:ext cx="1733760" cy="2133360"/>
          </a:xfrm>
          <a:prstGeom prst="rect">
            <a:avLst/>
          </a:prstGeom>
          <a:solidFill>
            <a:srgbClr val="3333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3657600"/>
            <a:ext cx="228600" cy="2133720"/>
          </a:xfrm>
          <a:prstGeom prst="rect">
            <a:avLst/>
          </a:prstGeom>
          <a:solidFill>
            <a:srgbClr val="3333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9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0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5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48148E-006 L 5.55556E-007 0.16111 E">
                                      <p:cBhvr>
                                        <p:cTn id="120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16111 L -0.66458 0.16111 E">
                                      <p:cBhvr>
                                        <p:cTn id="131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15:50:35Z</dcterms:created>
  <dc:creator>mira</dc:creator>
  <dc:description/>
  <dc:language>en-US</dc:language>
  <cp:lastModifiedBy>mira</cp:lastModifiedBy>
  <dcterms:modified xsi:type="dcterms:W3CDTF">2010-01-15T16:48:14Z</dcterms:modified>
  <cp:revision>95</cp:revision>
  <dc:subject/>
  <dc:title>Prezentace aplikace PowerPoint</dc:title>
</cp:coreProperties>
</file>